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3CF-55F7-4609-A3E2-17BCA57D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07F-6342-450D-84DA-A8477259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D56-55FF-400F-9FB8-A2A33034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370-E7DA-43CD-8FD9-29143111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0854-2E0B-4BDD-880E-BAEFB6EF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58B4-DE7A-4185-9881-016A3E67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AE3C-3C0C-4535-B263-13CF1178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8067-0B5F-4BC6-96E3-4C6D35D9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C9DE-33F5-4E87-8A89-BDE6D863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B24D-39DE-46C6-99B9-8C8CC884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5F53-5BF0-484B-8020-A41B5BF7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6C0-69AF-4169-9849-D285F61A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3445-A56C-4315-974A-4144A94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F667-7270-4009-BF2F-1FCF5D7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C4AF-D750-41FD-BFE6-84FDD606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5B66-FD52-4866-9424-13EF8B0F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819F-D193-481F-87FA-E7AD760E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906-8E4D-4933-8AE1-89ED8D72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534-A3D1-4CA3-ADA5-8B4F28C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340-DE9C-4D4F-AF1C-799E1AE2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C88-1638-468D-AD5E-3C54CBF4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CEA-B1A9-4B1E-B59D-D9B4D16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DCA-3729-4528-9726-D1AE40B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47D-E084-45CA-881D-5302A354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82A8-5D45-456D-8B43-3472D5834A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F4EF-4698-47FD-94B4-BD628B70DC0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Grupa nr. 3 :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Cernau Laura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Covaciu Beniamin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                             </a:t>
            </a:r>
            <a:r>
              <a:rPr b="0" lang="en-US" sz="4000" spc="-1" strike="noStrike">
                <a:solidFill>
                  <a:srgbClr val="bf1ba0"/>
                </a:solidFill>
                <a:latin typeface="Arial"/>
              </a:rPr>
              <a:t>Crisan Sergiu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ubul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213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520d"/>
                </a:solidFill>
                <a:latin typeface="Arial"/>
              </a:rPr>
              <a:t>Este corpul geometric care are toate fetele patrate congruen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7" descr="Cubul"/>
          <p:cNvPicPr/>
          <p:nvPr/>
        </p:nvPicPr>
        <p:blipFill>
          <a:blip r:embed="rId2"/>
          <a:stretch/>
        </p:blipFill>
        <p:spPr>
          <a:xfrm>
            <a:off x="380880" y="2174760"/>
            <a:ext cx="56390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495320" y="228600"/>
            <a:ext cx="4800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Elementele cubului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-2 baze patrate congruen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-4 fete laterale patrate congruen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-numarul muchiilor bazei :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0d9f"/>
                </a:solidFill>
                <a:latin typeface="Arial"/>
              </a:rPr>
              <a:t>-numarul muchiilor laterale: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5" descr="fără titlu"/>
          <p:cNvPicPr/>
          <p:nvPr/>
        </p:nvPicPr>
        <p:blipFill>
          <a:blip r:embed="rId2"/>
          <a:stretch/>
        </p:blipFill>
        <p:spPr>
          <a:xfrm>
            <a:off x="0" y="0"/>
            <a:ext cx="4419720" cy="35812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Elemente calculabil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Aria laterala A</a:t>
            </a:r>
            <a:r>
              <a:rPr b="0" lang="en-US" sz="2000" spc="-1" strike="noStrike">
                <a:solidFill>
                  <a:srgbClr val="bf1ba0"/>
                </a:solidFill>
                <a:latin typeface="Arial"/>
              </a:rPr>
              <a:t>l=</a:t>
            </a: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Aria totala A</a:t>
            </a:r>
            <a:r>
              <a:rPr b="0" lang="en-US" sz="2000" spc="-1" strike="noStrike">
                <a:solidFill>
                  <a:srgbClr val="bf1ba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=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Volumul V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Diagonala d=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f1b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Diagonala unei fete a cubului d</a:t>
            </a:r>
            <a:r>
              <a:rPr b="0" lang="en-US" sz="2000" spc="-1" strike="noStrike">
                <a:solidFill>
                  <a:srgbClr val="bf1ba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bf1ba0"/>
                </a:solidFill>
                <a:latin typeface="Arial"/>
              </a:rPr>
              <a:t>=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4" descr="fără titlu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7162920" y="3657600"/>
            <a:ext cx="457200" cy="5716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620120" y="2590920"/>
            <a:ext cx="428400" cy="5428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12" descr=""/>
          <p:cNvPicPr/>
          <p:nvPr/>
        </p:nvPicPr>
        <p:blipFill>
          <a:blip r:embed="rId4"/>
          <a:stretch/>
        </p:blipFill>
        <p:spPr>
          <a:xfrm>
            <a:off x="7162920" y="2057400"/>
            <a:ext cx="380880" cy="5716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14" descr=""/>
          <p:cNvPicPr/>
          <p:nvPr/>
        </p:nvPicPr>
        <p:blipFill>
          <a:blip r:embed="rId5"/>
          <a:stretch/>
        </p:blipFill>
        <p:spPr>
          <a:xfrm>
            <a:off x="7772400" y="1447920"/>
            <a:ext cx="380880" cy="571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17" descr=""/>
          <p:cNvPicPr/>
          <p:nvPr/>
        </p:nvPicPr>
        <p:blipFill>
          <a:blip r:embed="rId6"/>
          <a:stretch/>
        </p:blipFill>
        <p:spPr>
          <a:xfrm>
            <a:off x="8001000" y="838080"/>
            <a:ext cx="380880" cy="5716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5088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Matematica pentru evaluarea nationala” de Dumitru Savulescu, pagina 129,varianta 7, subiectul al treilea ,exercitiul 1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Cubul ABCDA’B’C’D’ are lungimea muchiei de 20 de cm, M este mijlocul muchiei AB,iar O este centrul fetei BCC’B’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a)Sa se calculeze aria totala a cubului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b)Sa se calculeze cate cuburi incap intr-o cutie in forma de paralelipiped dreptunghic cu dimensiunile de 2m, 1,4m si 80 de cm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c)Sa se calculeze distanta de la M la planul (ABC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d520d"/>
                </a:solidFill>
                <a:latin typeface="Arial"/>
              </a:rPr>
              <a:t>d)Sa se demonstreze ca D’O _l_ (COM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10-12-14T13:02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